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7B75-2B65-41EC-807D-F972AB5A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37E9-608F-42B5-9601-1B6F0E0C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5E82-BCBA-4A19-AE32-2F9B49B59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60CB-F3C6-40D2-A0A8-E92A986C2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E15B-4D88-4558-956E-DCC143EC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F86E-411F-49EF-9437-2FCF5A82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DFBD-7B48-4729-8A6C-C74BDDCB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8327-1662-4F52-9DF4-D69FA813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47E7-8FCD-4512-80A7-C57570DA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447B-9AD9-46C2-8D35-A829F11F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5390-7589-4883-B36F-4B3E18A2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65A1-9455-4B9F-8C77-BA13BEFA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E80B-6CC0-40B1-BCBC-3B223207F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190512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99"/>
                </a:solidFill>
                <a:latin typeface="Arial"/>
              </a:rPr>
              <a:t>Impressio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486400" y="3733920"/>
            <a:ext cx="1446120" cy="1869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19320" y="3581280"/>
            <a:ext cx="2260440" cy="21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26564" t="36462" r="34376" b="30211"/>
          <a:stretch/>
        </p:blipFill>
        <p:spPr>
          <a:xfrm>
            <a:off x="4648320" y="3895560"/>
            <a:ext cx="4114800" cy="2633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38098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3809880" cy="2505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25782" t="33337" r="34376" b="32293"/>
          <a:stretch/>
        </p:blipFill>
        <p:spPr>
          <a:xfrm>
            <a:off x="4495680" y="3581280"/>
            <a:ext cx="3886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22659" t="30211" r="56252" b="27086"/>
          <a:stretch/>
        </p:blipFill>
        <p:spPr>
          <a:xfrm>
            <a:off x="4800600" y="2666880"/>
            <a:ext cx="2057400" cy="3124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5800" y="5335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et’s Water Lil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4:41:29Z</dcterms:created>
  <dc:creator>Patrick J. Mooney</dc:creator>
  <dc:description/>
  <dc:language>en-US</dc:language>
  <cp:lastModifiedBy>Patrick J. Mooney</cp:lastModifiedBy>
  <dcterms:modified xsi:type="dcterms:W3CDTF">2011-02-08T15:30:47Z</dcterms:modified>
  <cp:revision>3</cp:revision>
  <dc:subject/>
  <dc:title>Slide 1</dc:title>
</cp:coreProperties>
</file>